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728D-3B4B-4D2E-BEED-C79F34416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C4A1-BD67-452D-8155-A2E146F6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56F5-ADD5-4E66-AD62-A57EA4CCE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CEAF-3708-4C44-8F87-42C4DB01F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F4B2-B6AE-4305-ACCC-A3B13D135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CBB4-FCCA-4846-B512-0CC3BEEB4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6AF6-2967-433E-8C89-7B409B280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4A54-3CF5-4A5E-BC26-EB3447B7E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8B4B-F012-4C39-8C6B-D77C95F53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302A-F0F4-40B5-841A-A6EF4AED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851F-6A4D-4B61-A8A3-2B364241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3A53-5611-4061-B75A-974C5850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6DA7B-2857-4D25-8D6D-DC9DB42A749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996600"/>
                </a:solidFill>
                <a:latin typeface="Arial"/>
              </a:rPr>
              <a:t>EDIPO RE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6600"/>
                </a:solidFill>
                <a:latin typeface="Arial"/>
              </a:rPr>
              <a:t>Referente cinematográf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6600"/>
                </a:solidFill>
                <a:latin typeface="Arial"/>
              </a:rPr>
              <a:t>Resultado de la investig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cc6600"/>
                </a:solidFill>
                <a:latin typeface="Arial"/>
              </a:rPr>
              <a:t>En el caso de </a:t>
            </a:r>
            <a:r>
              <a:rPr b="0" i="1" lang="es-ES" sz="2400" spc="-1" strike="noStrike">
                <a:solidFill>
                  <a:srgbClr val="cc6600"/>
                </a:solidFill>
                <a:latin typeface="Arial"/>
              </a:rPr>
              <a:t>Poderosa Afrodita</a:t>
            </a:r>
            <a:r>
              <a:rPr b="0" lang="es-ES" sz="2400" spc="-1" strike="noStrike">
                <a:solidFill>
                  <a:srgbClr val="cc6600"/>
                </a:solidFill>
                <a:latin typeface="Arial"/>
              </a:rPr>
              <a:t>, la investigación tiene un final feliz: Lenny y Amanda resuelven su crisis; y la madre del hijo de aquéllos conoce a un hombre (mediante un </a:t>
            </a:r>
            <a:r>
              <a:rPr b="0" i="1" lang="es-ES" sz="2400" spc="-1" strike="noStrike">
                <a:solidFill>
                  <a:srgbClr val="cc6600"/>
                </a:solidFill>
                <a:latin typeface="Arial"/>
              </a:rPr>
              <a:t>deus ex machina</a:t>
            </a:r>
            <a:r>
              <a:rPr b="0" lang="es-ES" sz="2400" spc="-1" strike="noStrike">
                <a:solidFill>
                  <a:srgbClr val="cc6600"/>
                </a:solidFill>
                <a:latin typeface="Arial"/>
              </a:rPr>
              <a:t>) con el que se une y “tiene” una hija (que es realmente hija de Lenn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763640" y="3645000"/>
            <a:ext cx="53625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6600"/>
                </a:solidFill>
                <a:latin typeface="Arial"/>
              </a:rPr>
              <a:t>Razón de la investig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cc6600"/>
                </a:solidFill>
                <a:latin typeface="Arial"/>
              </a:rPr>
              <a:t>El motivo del comienzo de la investigación en Edipo es el deseo de querer detener la peste que está asoliendo Teb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987640" y="3357720"/>
            <a:ext cx="320040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6600"/>
                </a:solidFill>
                <a:latin typeface="Arial"/>
              </a:rPr>
              <a:t>Objetivo de la investig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cc6600"/>
                </a:solidFill>
                <a:latin typeface="Arial"/>
              </a:rPr>
              <a:t>El objetivo de la investigación en esta tragedia es encontrar al asesino de Layo, el antiguo rey de Tebas, el cual abandonó a su hijo atándole los pies por unos vaticinios que decían que su hijo mataría a su padre y se uniría a su mad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564000" y="3344760"/>
            <a:ext cx="2509920" cy="35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6600"/>
                </a:solidFill>
                <a:latin typeface="Arial"/>
              </a:rPr>
              <a:t>Implicación en la investig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cc6600"/>
                </a:solidFill>
                <a:latin typeface="Arial"/>
              </a:rPr>
              <a:t>Edipo acaba implicándose en la investigación, y esto se sabe gracias a la mención de sus pies torcidos y porque un sirviente de Pólibo y Mérope, reyes de Corinto, afirma que éstos no son sus padres reales, sino que lo acogieron en adopción cuando el mismo sirviente le encontró en el monte Citerón siendo un beb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64000" y="1413000"/>
            <a:ext cx="241632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6600"/>
                </a:solidFill>
                <a:latin typeface="Arial"/>
              </a:rPr>
              <a:t>Resultado de la investig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cc6600"/>
                </a:solidFill>
                <a:latin typeface="Arial"/>
              </a:rPr>
              <a:t>Edipo acaba sabiendo que verdaderamente es él el asesino de Layo, que a la vez es su padre, y que se ha unido a su madre, con la que ha tenido descendencia. Para que nadie reciba el deshonor de su mirada, se arranca los oj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843280" y="3645000"/>
            <a:ext cx="316872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996600"/>
                </a:solidFill>
                <a:latin typeface="Arial"/>
              </a:rPr>
              <a:t>Poderosa Afrodi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cc6600"/>
                </a:solidFill>
                <a:latin typeface="Arial"/>
              </a:rPr>
              <a:t>Esta película dirigida por Woody Allen es un ejemplo de un film con el referente de Edip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203640" y="2781360"/>
            <a:ext cx="27716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6600"/>
                </a:solidFill>
                <a:latin typeface="Arial"/>
              </a:rPr>
              <a:t>Razón de la investig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cc6600"/>
                </a:solidFill>
                <a:latin typeface="Arial"/>
              </a:rPr>
              <a:t>La pareja formada por Lenny y Amanda sufre una crisis sentimental tras adoptar a un niño. Lenny, insatisfecho, decide encontrar a la madre biológica de su hij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06920" y="1916280"/>
            <a:ext cx="4537080" cy="30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6600"/>
                </a:solidFill>
                <a:latin typeface="Arial"/>
              </a:rPr>
              <a:t>Objetivo de la investig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cc6600"/>
                </a:solidFill>
                <a:latin typeface="Arial"/>
              </a:rPr>
              <a:t>Lenny quiere encontrar a la madre de su hijo adoptivo para así quizá olvidar la crisis que sufren su pareja y é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859280" y="1413000"/>
            <a:ext cx="343872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6600"/>
                </a:solidFill>
                <a:latin typeface="Arial"/>
              </a:rPr>
              <a:t>Implicación en la investig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cc6600"/>
                </a:solidFill>
                <a:latin typeface="Arial"/>
              </a:rPr>
              <a:t>Lenny y la madre de su hijo acaban manteniendo relaciones sexuales. Ésta queda embarazada de él, por lo que Lenny se ve implic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050920" y="3699000"/>
            <a:ext cx="4608720" cy="30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23:14:21Z</dcterms:created>
  <dc:creator>Jordi</dc:creator>
  <dc:description/>
  <dc:language>en-US</dc:language>
  <cp:lastModifiedBy>Jordi</cp:lastModifiedBy>
  <dcterms:modified xsi:type="dcterms:W3CDTF">2010-04-18T23:35:22Z</dcterms:modified>
  <cp:revision>2</cp:revision>
  <dc:subject/>
  <dc:title>EDIPO REY</dc:title>
</cp:coreProperties>
</file>